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5200-B073-40D0-BDF2-8775130B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DEA-F4C9-40F1-92A1-DD377424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02F-B7E0-4527-A5AF-7D750B93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565-454B-45FC-9C63-317A1B97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B46C-A3A0-4243-AED1-A8FD5A59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3C6F-02BF-4DA6-ACDE-80811D44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BA60-DAC6-4254-A840-D6510241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319A-FE06-423F-B5A1-C899C42C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15B3-CB61-4476-B489-0CC2C869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7F62-9AD4-4465-B085-C1B9BD4D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A060-7AA6-4CBF-9CC9-00F467D3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B133-99F1-43F8-9A4E-2F39FC49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A8C3-2041-435C-9C34-86CEECBF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B996-1B5C-4361-A48B-AC0CCC03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B2EF-C995-40AD-9D1C-9603DE49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5B61-FEA7-4D09-AAB1-52417B23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17DB-C58D-47E9-BE12-FD7E1AFA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CCC7C-1652-475C-A376-99589235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FA5AC-6F10-4A7A-83A9-9898FBD2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F3059-6C0E-4D02-90C8-6FE2D753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620DA-172F-4AC4-A1C0-6554A5D3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2773F-1064-4DA5-8636-8FC35186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C846-60EF-4CDE-95DD-E0C2E0B0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FE5FD-3056-4D43-BEFE-B92B0C94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94EBE-0DDC-40FD-8AFA-7F65EEC3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0147A-FCE7-42C3-8D2A-D8E97DE5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41BDE-0CCD-456E-A5B0-1D4DA153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EF7A1-C6F0-4D35-AF84-1AB20A6A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08142-1AFF-4E67-BFAB-0CB37780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58A18-10BB-4C69-92AF-26C08407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00CE0-CDDE-4B51-B579-519E7786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B94F7-3C7C-4520-B351-714F5DF2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5F5C5-0954-43AE-B2D7-8947C930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D8E8-D39C-4B35-B366-C23ED1B6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F4F9B-8B84-4FF1-B16B-4F42CF13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05A67-4824-4D63-8839-4B20AFE7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644BB-0EAE-4DB2-87AE-8A0A9235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C5265-C0AB-4A1F-95BE-609DADD2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6263D-3C77-44B3-BB2F-6E2CFD69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8AC66-0364-44D4-868E-E4CC8D75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81269-0903-4F8A-BC46-CC968E23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A0CD8-6AED-4B5B-8DB8-CAE5EF44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60113-AA63-4A31-B130-8F62BDF7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C5896-3B95-4EA6-B5A8-6B5E26D6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B9E-A01D-4165-A709-F426CFCF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B3679-1A1B-4867-B774-4FAE1FB3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0CF4C-C9C4-4F36-9D69-22335260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A476B-FA1C-4F3E-A0E8-A0709900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CA003-5E7E-47C4-A766-7E7FC1BF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A9259-0A3C-4035-92E5-10766126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6C8B0-2EFA-4BC5-8182-21235452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47510-2E8B-40BD-817C-14F94F2D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584A5-2B9B-4977-A847-92C8DEE9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653E8-B404-429A-9CAA-009BFD0E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8ED40-F8EF-4150-B659-3753AB45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C983-E7E5-4710-9699-9760E31F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B2969-84CB-45D7-AD67-F0081C06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58095-2894-4805-89EE-CB8A983E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0EEBF-1658-40B2-AAB9-5B4E98A5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C44F6-5D13-48C3-B0B0-997594A1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517FE-38CA-4BE2-B89B-3EC50554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32243-71B8-4340-8647-FECF760B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0A743-98FF-4637-9259-A02ED9A5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DDB00-9AE3-4C21-8516-0CB25444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A1584-9F50-4F3D-9FEA-0C85C613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154F4-FE8E-419E-A12D-A14984A6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469-BDEF-4DE5-8773-1843E26C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91CED-FA7F-4845-A4AB-484112AD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1B542-289E-483F-B4C6-B833728B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095AF-06BB-43D3-A086-95932831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0414B-526A-4FE7-9474-CCE587B5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005AA-28DC-417A-89CE-960D8543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05FC5-9A27-4823-BCE0-6222426C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3AC27-7D87-4C32-9BC1-21A23FB5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FCC41-4EE1-4579-AB3F-725C8BDF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693FA-F5F4-4295-9665-45D5315C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115FB-CD2A-4F3A-B674-7AAFD6CB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A86D-703F-4169-A82F-22280D36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A6958-DBB4-460A-B15E-64271B3C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11E20-B809-43F5-A699-31BD6BC9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53995-9B39-4D28-87C7-02CBC73F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253E2-333F-41EB-A485-12D761A9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BC382-D9A2-4733-AC49-EB14DB83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74F-5205-4D3A-B01B-DF8DB01F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A741-9B5B-4D47-A2EA-DC348C7FBDC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D048-683A-4C2B-B184-2C1B127C40F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2AC2-CBEA-4562-B79B-58BFC364608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35C1-1B81-48EF-A7F3-6216D9056D5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1ECC-E6CE-4FC3-9363-E0DCAA99605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756E-CC86-49D5-9C85-31F1197B8AA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5600-4C66-470A-BFF0-6C7E0E9F507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Прямоугольник с двумя скругленными противолежащими углами 4"/>
          <p:cNvGrpSpPr/>
          <p:nvPr/>
        </p:nvGrpSpPr>
        <p:grpSpPr>
          <a:xfrm>
            <a:off x="865080" y="208080"/>
            <a:ext cx="8223480" cy="730080"/>
            <a:chOff x="865080" y="208080"/>
            <a:chExt cx="8223480" cy="730080"/>
          </a:xfrm>
        </p:grpSpPr>
        <p:pic>
          <p:nvPicPr>
            <p:cNvPr id="319" name="Прямоугольник с двумя скругленными противолежащими углами 4" descr=""/>
            <p:cNvPicPr/>
            <p:nvPr/>
          </p:nvPicPr>
          <p:blipFill>
            <a:blip r:embed="rId1"/>
            <a:stretch/>
          </p:blipFill>
          <p:spPr>
            <a:xfrm>
              <a:off x="865080" y="208080"/>
              <a:ext cx="8223480" cy="7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009800" y="326880"/>
              <a:ext cx="793404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Georgia"/>
                </a:rPr>
                <a:t>Реестр расходных обязательств муниципального образования городской округ город Омск Омской области</a:t>
              </a:r>
              <a:r>
                <a:rPr b="1" lang="ru-RU" sz="1400" spc="-1" strike="noStrike">
                  <a:solidFill>
                    <a:srgbClr val="ffffff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aphicFrame>
        <p:nvGraphicFramePr>
          <p:cNvPr id="321" name="Object 103"/>
          <p:cNvGraphicFramePr/>
          <p:nvPr/>
        </p:nvGraphicFramePr>
        <p:xfrm>
          <a:off x="250920" y="73080"/>
          <a:ext cx="506160" cy="42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2" name="Object 10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73080"/>
                    <a:ext cx="5061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Box 6"/>
          <p:cNvSpPr/>
          <p:nvPr/>
        </p:nvSpPr>
        <p:spPr>
          <a:xfrm>
            <a:off x="928800" y="0"/>
            <a:ext cx="37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75a8d"/>
                </a:solidFill>
                <a:latin typeface="Arial Black"/>
              </a:rPr>
              <a:t>Администрация города Омск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1015920" y="907920"/>
            <a:ext cx="809316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Одним из принципов бюджетной системы Российской Федерации является принцип самостоятельности бюджетов, который определяет право и обязанность органов местного самоуправления самостоятельно осуществлять бюджетный процесс, в том числе определять формы и направления расходования средств местных бюджетов (за исключением расходов, финансируемых за счет бюджетов других уровней)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Федеральный закон от 06.10.2003 № 131-ФЗ «Об общих принципах организации местного самоуправления в Российской Федерации» определяет, что расходные обязательства местных бюджетов включают расходы по вопросам местного значения муниципальных образований, определенные в зависимости от видов муниципальных образований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Расходные обязательств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муниципального образования городской округ город Омск Омской области (далее – город Омск) – это обусловленные законом, иным нормативным правовым актом, договором или соглашением обязанности города Омска по предоставлению средств бюджета города Омска физическим или юридическим лицам, органам государственной власти и структурным подразделениям Администрации города Омска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Расходные обязательства  города Омска возникают в результате принятия законов, нормативных актов, договоров, в которых предусматривается предоставление средств из бюджета города Омска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25" name="Скругленный прямоугольник 11"/>
          <p:cNvGrpSpPr/>
          <p:nvPr/>
        </p:nvGrpSpPr>
        <p:grpSpPr>
          <a:xfrm>
            <a:off x="3706920" y="3706920"/>
            <a:ext cx="2657520" cy="414360"/>
            <a:chOff x="3706920" y="3706920"/>
            <a:chExt cx="2657520" cy="414360"/>
          </a:xfrm>
        </p:grpSpPr>
        <p:pic>
          <p:nvPicPr>
            <p:cNvPr id="326" name="Скругленный прямоугольник 11" descr=""/>
            <p:cNvPicPr/>
            <p:nvPr/>
          </p:nvPicPr>
          <p:blipFill>
            <a:blip r:embed="rId4"/>
            <a:stretch/>
          </p:blipFill>
          <p:spPr>
            <a:xfrm>
              <a:off x="3706920" y="3706920"/>
              <a:ext cx="26575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762360" y="3816360"/>
              <a:ext cx="2492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b1d15"/>
                  </a:solidFill>
                  <a:latin typeface="Georgia"/>
                </a:rPr>
                <a:t>Расходные  обязательства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28" name="Прямая соединительная линия 27"/>
          <p:cNvSpPr/>
          <p:nvPr/>
        </p:nvSpPr>
        <p:spPr>
          <a:xfrm flipV="1">
            <a:off x="5008680" y="4076640"/>
            <a:ext cx="0" cy="13032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44"/>
          <p:cNvSpPr/>
          <p:nvPr/>
        </p:nvSpPr>
        <p:spPr>
          <a:xfrm flipV="1">
            <a:off x="3022560" y="4209840"/>
            <a:ext cx="0" cy="22860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30" name="Прямая со стрелкой 46"/>
          <p:cNvCxnSpPr/>
          <p:nvPr/>
        </p:nvCxnSpPr>
        <p:spPr>
          <a:xfrm>
            <a:off x="3022560" y="4206600"/>
            <a:ext cx="202284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</a:ln>
        </p:spPr>
      </p:cxnSp>
      <p:grpSp>
        <p:nvGrpSpPr>
          <p:cNvPr id="331" name="Скругленный прямоугольник 9"/>
          <p:cNvGrpSpPr/>
          <p:nvPr/>
        </p:nvGrpSpPr>
        <p:grpSpPr>
          <a:xfrm>
            <a:off x="6072120" y="4346640"/>
            <a:ext cx="2005200" cy="444600"/>
            <a:chOff x="6072120" y="4346640"/>
            <a:chExt cx="2005200" cy="444600"/>
          </a:xfrm>
        </p:grpSpPr>
        <p:pic>
          <p:nvPicPr>
            <p:cNvPr id="332" name="Скругленный 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6072120" y="4346640"/>
              <a:ext cx="20052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126120" y="4460760"/>
              <a:ext cx="1841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b1d15"/>
                  </a:solidFill>
                  <a:latin typeface="Georgia"/>
                </a:rPr>
                <a:t>Принимаемые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34" name="Прямая соединительная линия 31"/>
          <p:cNvSpPr/>
          <p:nvPr/>
        </p:nvSpPr>
        <p:spPr>
          <a:xfrm flipV="1">
            <a:off x="5977080" y="4602240"/>
            <a:ext cx="0" cy="42552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Прямая соединительная линия 35"/>
          <p:cNvSpPr/>
          <p:nvPr/>
        </p:nvSpPr>
        <p:spPr>
          <a:xfrm flipV="1">
            <a:off x="7061040" y="4210200"/>
            <a:ext cx="0" cy="21096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Прямая соединительная линия 59"/>
          <p:cNvSpPr/>
          <p:nvPr/>
        </p:nvSpPr>
        <p:spPr>
          <a:xfrm flipV="1">
            <a:off x="8148600" y="4591080"/>
            <a:ext cx="0" cy="42552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37" name="Скругленный прямоугольник 7"/>
          <p:cNvGrpSpPr/>
          <p:nvPr/>
        </p:nvGrpSpPr>
        <p:grpSpPr>
          <a:xfrm>
            <a:off x="2054160" y="4346640"/>
            <a:ext cx="1994040" cy="438120"/>
            <a:chOff x="2054160" y="4346640"/>
            <a:chExt cx="1994040" cy="438120"/>
          </a:xfrm>
        </p:grpSpPr>
        <p:pic>
          <p:nvPicPr>
            <p:cNvPr id="338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2054160" y="4346640"/>
              <a:ext cx="19940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2109960" y="4456080"/>
              <a:ext cx="1827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b1d15"/>
                  </a:solidFill>
                  <a:latin typeface="Georgia"/>
                </a:rPr>
                <a:t>Действующие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40" name="Прямая соединительная линия 32"/>
          <p:cNvSpPr/>
          <p:nvPr/>
        </p:nvSpPr>
        <p:spPr>
          <a:xfrm flipV="1">
            <a:off x="2484360" y="4709880"/>
            <a:ext cx="0" cy="110628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Прямая соединительная линия 60"/>
          <p:cNvSpPr/>
          <p:nvPr/>
        </p:nvSpPr>
        <p:spPr>
          <a:xfrm flipV="1">
            <a:off x="4140360" y="4591080"/>
            <a:ext cx="0" cy="42552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Прямая соединительная линия 61"/>
          <p:cNvSpPr/>
          <p:nvPr/>
        </p:nvSpPr>
        <p:spPr>
          <a:xfrm flipV="1">
            <a:off x="1940040" y="4562280"/>
            <a:ext cx="0" cy="41724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43" name="Скругленный прямоугольник 62"/>
          <p:cNvGrpSpPr/>
          <p:nvPr/>
        </p:nvGrpSpPr>
        <p:grpSpPr>
          <a:xfrm>
            <a:off x="974880" y="4870440"/>
            <a:ext cx="1542960" cy="701640"/>
            <a:chOff x="974880" y="4870440"/>
            <a:chExt cx="1542960" cy="701640"/>
          </a:xfrm>
        </p:grpSpPr>
        <p:pic>
          <p:nvPicPr>
            <p:cNvPr id="344" name="Скругленный прямоугольник 62" descr=""/>
            <p:cNvPicPr/>
            <p:nvPr/>
          </p:nvPicPr>
          <p:blipFill>
            <a:blip r:embed="rId7"/>
            <a:stretch/>
          </p:blipFill>
          <p:spPr>
            <a:xfrm>
              <a:off x="974880" y="4870440"/>
              <a:ext cx="15429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1042920" y="4995720"/>
              <a:ext cx="134928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3b1d15"/>
                  </a:solidFill>
                  <a:latin typeface="Georgia"/>
                </a:rPr>
                <a:t>социальные выплаты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46" name="Скругленный прямоугольник 64"/>
          <p:cNvGrpSpPr/>
          <p:nvPr/>
        </p:nvGrpSpPr>
        <p:grpSpPr>
          <a:xfrm>
            <a:off x="3340080" y="4883040"/>
            <a:ext cx="1665360" cy="689040"/>
            <a:chOff x="3340080" y="4883040"/>
            <a:chExt cx="1665360" cy="689040"/>
          </a:xfrm>
        </p:grpSpPr>
        <p:pic>
          <p:nvPicPr>
            <p:cNvPr id="347" name="Скругленный прямоугольник 64" descr=""/>
            <p:cNvPicPr/>
            <p:nvPr/>
          </p:nvPicPr>
          <p:blipFill>
            <a:blip r:embed="rId8"/>
            <a:stretch/>
          </p:blipFill>
          <p:spPr>
            <a:xfrm>
              <a:off x="3340080" y="4883040"/>
              <a:ext cx="16653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406680" y="5054760"/>
              <a:ext cx="147492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3b1d15"/>
                  </a:solidFill>
                  <a:latin typeface="Georgia"/>
                </a:rPr>
                <a:t>обслуживание муниципального долг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49" name="Прямая соединительная линия 65"/>
          <p:cNvSpPr/>
          <p:nvPr/>
        </p:nvSpPr>
        <p:spPr>
          <a:xfrm flipV="1">
            <a:off x="3348000" y="4709880"/>
            <a:ext cx="0" cy="110628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50" name="Скругленный прямоугольник 66"/>
          <p:cNvGrpSpPr/>
          <p:nvPr/>
        </p:nvGrpSpPr>
        <p:grpSpPr>
          <a:xfrm>
            <a:off x="1146240" y="5718240"/>
            <a:ext cx="1652400" cy="847800"/>
            <a:chOff x="1146240" y="5718240"/>
            <a:chExt cx="1652400" cy="847800"/>
          </a:xfrm>
        </p:grpSpPr>
        <p:pic>
          <p:nvPicPr>
            <p:cNvPr id="351" name="Скругленный прямоугольник 66" descr=""/>
            <p:cNvPicPr/>
            <p:nvPr/>
          </p:nvPicPr>
          <p:blipFill>
            <a:blip r:embed="rId9"/>
            <a:stretch/>
          </p:blipFill>
          <p:spPr>
            <a:xfrm>
              <a:off x="1146240" y="5718240"/>
              <a:ext cx="16524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1222200" y="5851440"/>
              <a:ext cx="1443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3b1d15"/>
                  </a:solidFill>
                  <a:latin typeface="Georgia"/>
                </a:rPr>
                <a:t>муниципальные услуги (работы) и функции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cxnSp>
        <p:nvCxnSpPr>
          <p:cNvPr id="353" name="Прямая со стрелкой 71"/>
          <p:cNvCxnSpPr/>
          <p:nvPr/>
        </p:nvCxnSpPr>
        <p:spPr>
          <a:xfrm>
            <a:off x="5045040" y="4209840"/>
            <a:ext cx="202284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</a:ln>
        </p:spPr>
      </p:cxnSp>
      <p:cxnSp>
        <p:nvCxnSpPr>
          <p:cNvPr id="354" name="Прямая со стрелкой 86"/>
          <p:cNvCxnSpPr/>
          <p:nvPr/>
        </p:nvCxnSpPr>
        <p:spPr>
          <a:xfrm>
            <a:off x="3986280" y="4597200"/>
            <a:ext cx="15480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</a:ln>
        </p:spPr>
      </p:cxnSp>
      <p:cxnSp>
        <p:nvCxnSpPr>
          <p:cNvPr id="355" name="Прямая со стрелкой 91"/>
          <p:cNvCxnSpPr/>
          <p:nvPr/>
        </p:nvCxnSpPr>
        <p:spPr>
          <a:xfrm>
            <a:off x="1939680" y="4562280"/>
            <a:ext cx="15444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</a:ln>
        </p:spPr>
      </p:cxnSp>
      <p:grpSp>
        <p:nvGrpSpPr>
          <p:cNvPr id="356" name="Скругленный прямоугольник 92"/>
          <p:cNvGrpSpPr/>
          <p:nvPr/>
        </p:nvGrpSpPr>
        <p:grpSpPr>
          <a:xfrm>
            <a:off x="3090960" y="5718240"/>
            <a:ext cx="1652400" cy="847800"/>
            <a:chOff x="3090960" y="5718240"/>
            <a:chExt cx="1652400" cy="847800"/>
          </a:xfrm>
        </p:grpSpPr>
        <p:pic>
          <p:nvPicPr>
            <p:cNvPr id="357" name="Скругленный прямоугольник 92" descr=""/>
            <p:cNvPicPr/>
            <p:nvPr/>
          </p:nvPicPr>
          <p:blipFill>
            <a:blip r:embed="rId10"/>
            <a:stretch/>
          </p:blipFill>
          <p:spPr>
            <a:xfrm>
              <a:off x="3090960" y="5718240"/>
              <a:ext cx="16524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3168720" y="5851440"/>
              <a:ext cx="143964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b1d15"/>
                  </a:solidFill>
                  <a:latin typeface="Georgia"/>
                </a:rPr>
                <a:t>утвержденные программы и проекты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59" name="Скругленный прямоугольник 93"/>
          <p:cNvGrpSpPr/>
          <p:nvPr/>
        </p:nvGrpSpPr>
        <p:grpSpPr>
          <a:xfrm>
            <a:off x="5248440" y="4889520"/>
            <a:ext cx="1549080" cy="523800"/>
            <a:chOff x="5248440" y="4889520"/>
            <a:chExt cx="1549080" cy="523800"/>
          </a:xfrm>
        </p:grpSpPr>
        <p:pic>
          <p:nvPicPr>
            <p:cNvPr id="360" name="Скругленный прямоугольник 93" descr=""/>
            <p:cNvPicPr/>
            <p:nvPr/>
          </p:nvPicPr>
          <p:blipFill>
            <a:blip r:embed="rId11"/>
            <a:stretch/>
          </p:blipFill>
          <p:spPr>
            <a:xfrm>
              <a:off x="5248440" y="4889520"/>
              <a:ext cx="15490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307120" y="5045040"/>
              <a:ext cx="137484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3b1d15"/>
                  </a:solidFill>
                  <a:latin typeface="Georgia"/>
                </a:rPr>
                <a:t>новые законы (изменения)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cxnSp>
        <p:nvCxnSpPr>
          <p:cNvPr id="362" name="Прямая со стрелкой 94"/>
          <p:cNvCxnSpPr/>
          <p:nvPr/>
        </p:nvCxnSpPr>
        <p:spPr>
          <a:xfrm>
            <a:off x="5978520" y="4590720"/>
            <a:ext cx="15480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</a:ln>
        </p:spPr>
      </p:cxnSp>
      <p:cxnSp>
        <p:nvCxnSpPr>
          <p:cNvPr id="363" name="Прямая со стрелкой 95"/>
          <p:cNvCxnSpPr/>
          <p:nvPr/>
        </p:nvCxnSpPr>
        <p:spPr>
          <a:xfrm>
            <a:off x="7981920" y="4601880"/>
            <a:ext cx="15480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</a:ln>
        </p:spPr>
      </p:cxnSp>
      <p:grpSp>
        <p:nvGrpSpPr>
          <p:cNvPr id="364" name="Скругленный прямоугольник 96"/>
          <p:cNvGrpSpPr/>
          <p:nvPr/>
        </p:nvGrpSpPr>
        <p:grpSpPr>
          <a:xfrm>
            <a:off x="7400880" y="4889520"/>
            <a:ext cx="1548000" cy="523800"/>
            <a:chOff x="7400880" y="4889520"/>
            <a:chExt cx="1548000" cy="523800"/>
          </a:xfrm>
        </p:grpSpPr>
        <p:pic>
          <p:nvPicPr>
            <p:cNvPr id="365" name="Скругленный прямоугольник 96" descr=""/>
            <p:cNvPicPr/>
            <p:nvPr/>
          </p:nvPicPr>
          <p:blipFill>
            <a:blip r:embed="rId12"/>
            <a:stretch/>
          </p:blipFill>
          <p:spPr>
            <a:xfrm>
              <a:off x="7400880" y="4889520"/>
              <a:ext cx="15480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7462800" y="5046840"/>
              <a:ext cx="13734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3b1d15"/>
                  </a:solidFill>
                  <a:latin typeface="Georgia"/>
                </a:rPr>
                <a:t>новые решения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67" name="Прямая соединительная линия 97"/>
          <p:cNvSpPr/>
          <p:nvPr/>
        </p:nvSpPr>
        <p:spPr>
          <a:xfrm flipV="1">
            <a:off x="7067520" y="4746240"/>
            <a:ext cx="0" cy="81612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68" name="Скругленный прямоугольник 98"/>
          <p:cNvGrpSpPr/>
          <p:nvPr/>
        </p:nvGrpSpPr>
        <p:grpSpPr>
          <a:xfrm>
            <a:off x="6321600" y="5462640"/>
            <a:ext cx="1547640" cy="815760"/>
            <a:chOff x="6321600" y="5462640"/>
            <a:chExt cx="1547640" cy="815760"/>
          </a:xfrm>
        </p:grpSpPr>
        <p:pic>
          <p:nvPicPr>
            <p:cNvPr id="369" name="Скругленный прямоугольник 98" descr=""/>
            <p:cNvPicPr/>
            <p:nvPr/>
          </p:nvPicPr>
          <p:blipFill>
            <a:blip r:embed="rId13"/>
            <a:stretch/>
          </p:blipFill>
          <p:spPr>
            <a:xfrm>
              <a:off x="6321600" y="5462640"/>
              <a:ext cx="154764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6396120" y="5595840"/>
              <a:ext cx="13413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b1d15"/>
                  </a:solidFill>
                  <a:latin typeface="Georgia"/>
                </a:rPr>
                <a:t>новые программы и проекты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Прямоугольник с двумя скругленными противолежащими углами 4"/>
          <p:cNvGrpSpPr/>
          <p:nvPr/>
        </p:nvGrpSpPr>
        <p:grpSpPr>
          <a:xfrm>
            <a:off x="865080" y="208080"/>
            <a:ext cx="8223480" cy="730080"/>
            <a:chOff x="865080" y="208080"/>
            <a:chExt cx="8223480" cy="730080"/>
          </a:xfrm>
        </p:grpSpPr>
        <p:pic>
          <p:nvPicPr>
            <p:cNvPr id="372" name="Прямоугольник с двумя скругленными противолежащими углами 4" descr=""/>
            <p:cNvPicPr/>
            <p:nvPr/>
          </p:nvPicPr>
          <p:blipFill>
            <a:blip r:embed="rId1"/>
            <a:stretch/>
          </p:blipFill>
          <p:spPr>
            <a:xfrm>
              <a:off x="865080" y="208080"/>
              <a:ext cx="8223480" cy="7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1009800" y="326880"/>
              <a:ext cx="793404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Georgia"/>
                </a:rPr>
                <a:t>Реестр расходных обязательств муниципального образования городской округ город Омск Омской области</a:t>
              </a:r>
              <a:r>
                <a:rPr b="1" lang="ru-RU" sz="1400" spc="-1" strike="noStrike">
                  <a:solidFill>
                    <a:srgbClr val="ffffff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aphicFrame>
        <p:nvGraphicFramePr>
          <p:cNvPr id="374" name="Object 42"/>
          <p:cNvGraphicFramePr/>
          <p:nvPr/>
        </p:nvGraphicFramePr>
        <p:xfrm>
          <a:off x="250920" y="73080"/>
          <a:ext cx="506160" cy="42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Object 4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73080"/>
                    <a:ext cx="5061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TextBox 6"/>
          <p:cNvSpPr/>
          <p:nvPr/>
        </p:nvSpPr>
        <p:spPr>
          <a:xfrm>
            <a:off x="928800" y="0"/>
            <a:ext cx="37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75a8d"/>
                </a:solidFill>
                <a:latin typeface="Arial Black"/>
              </a:rPr>
              <a:t>Администрация города Омск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TextBox 1"/>
          <p:cNvSpPr/>
          <p:nvPr/>
        </p:nvSpPr>
        <p:spPr>
          <a:xfrm>
            <a:off x="1015920" y="907920"/>
            <a:ext cx="8093160" cy="23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Реестр расходных обязательств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— используемый при составлении проекта бюджета, свод (перечень) законов, иных нормативных правовых актов, муниципальных правовых актов, обуславливающих публичные нормативные обязательства и (или) правовые основания для иных расходных обязательств с указанием соответствующих положений (статей, частей, пунктов, подпунктов, абзацев) законов и иных нормативных правовых актов, муниципальных правовых актов с оценкой объемов бюджетных ассигнований, необходимых для исполнения включенных в реестр обязательств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Реестр расходных обязательств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ведется в целях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учета расходных обязательств города Омска и определения объема бюджетных ассигнований бюджета города Омска, необходимых для их исполнения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соответствии с реестром расходных обязательств города Омска все расходы бюджета города Омска регулируются нормативными правовыми актами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TextBox 2"/>
          <p:cNvSpPr/>
          <p:nvPr/>
        </p:nvSpPr>
        <p:spPr>
          <a:xfrm>
            <a:off x="1897560" y="2878200"/>
            <a:ext cx="686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Схема составления реестра расходных обязательств города Омск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79" name="Прямоугольник с двумя вырезанными противолежащими углами 33"/>
          <p:cNvGrpSpPr/>
          <p:nvPr/>
        </p:nvGrpSpPr>
        <p:grpSpPr>
          <a:xfrm>
            <a:off x="6151680" y="3176640"/>
            <a:ext cx="2547720" cy="1846080"/>
            <a:chOff x="6151680" y="3176640"/>
            <a:chExt cx="2547720" cy="1846080"/>
          </a:xfrm>
        </p:grpSpPr>
        <p:pic>
          <p:nvPicPr>
            <p:cNvPr id="380" name="Прямоугольник с двумя вырезанными противолежащими углами 33" descr=""/>
            <p:cNvPicPr/>
            <p:nvPr/>
          </p:nvPicPr>
          <p:blipFill>
            <a:blip r:embed="rId4"/>
            <a:stretch/>
          </p:blipFill>
          <p:spPr>
            <a:xfrm>
              <a:off x="6151680" y="3176640"/>
              <a:ext cx="254772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6318360" y="3348000"/>
              <a:ext cx="221616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b3e21"/>
                  </a:solidFill>
                  <a:latin typeface="Georgia"/>
                </a:rPr>
                <a:t>2 этап.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4b3e21"/>
                  </a:solidFill>
                  <a:uFillTx/>
                  <a:latin typeface="Georgia"/>
                </a:rPr>
                <a:t>уточненный реестр </a:t>
              </a:r>
              <a:r>
                <a:rPr b="1" lang="ru-RU" sz="1000" spc="-1" strike="noStrike">
                  <a:solidFill>
                    <a:srgbClr val="4b3e21"/>
                  </a:solidFill>
                  <a:latin typeface="Georgia"/>
                </a:rPr>
                <a:t>составляется  после утверждения Решения Омского городского Совета о бюджете города Омска на очередной финансовый год и плановый период в срок  до 1 февраля текущего финансового года</a:t>
              </a:r>
              <a:endParaRPr b="0" lang="en-US" sz="1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82" name="Прямоугольник с двумя вырезанными противолежащими углами 3"/>
          <p:cNvGrpSpPr/>
          <p:nvPr/>
        </p:nvGrpSpPr>
        <p:grpSpPr>
          <a:xfrm>
            <a:off x="1427040" y="3176640"/>
            <a:ext cx="2548080" cy="1846080"/>
            <a:chOff x="1427040" y="3176640"/>
            <a:chExt cx="2548080" cy="1846080"/>
          </a:xfrm>
        </p:grpSpPr>
        <p:pic>
          <p:nvPicPr>
            <p:cNvPr id="383" name="Прямоугольник с двумя вырезанными противолежащими углами 3" descr=""/>
            <p:cNvPicPr/>
            <p:nvPr/>
          </p:nvPicPr>
          <p:blipFill>
            <a:blip r:embed="rId5"/>
            <a:stretch/>
          </p:blipFill>
          <p:spPr>
            <a:xfrm>
              <a:off x="1427040" y="3176640"/>
              <a:ext cx="254808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1595520" y="3348000"/>
              <a:ext cx="221760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b3e21"/>
                  </a:solidFill>
                  <a:latin typeface="Georgia"/>
                </a:rPr>
                <a:t>1 этап.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4b3e21"/>
                  </a:solidFill>
                  <a:uFillTx/>
                  <a:latin typeface="Georgia"/>
                </a:rPr>
                <a:t>плановый реестр </a:t>
              </a:r>
              <a:r>
                <a:rPr b="1" lang="ru-RU" sz="1000" spc="-1" strike="noStrike">
                  <a:solidFill>
                    <a:srgbClr val="4b3e21"/>
                  </a:solidFill>
                  <a:latin typeface="Georgia"/>
                </a:rPr>
                <a:t>составляется  после доведения предельных объемов расходов бюджета города Омска на второй год планового периода в срок                  до 15 июня текущего финансового года</a:t>
              </a:r>
              <a:endParaRPr b="0" lang="en-US" sz="10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85" name="Стрелка вправо с вырезом 8"/>
          <p:cNvSpPr/>
          <p:nvPr/>
        </p:nvSpPr>
        <p:spPr>
          <a:xfrm>
            <a:off x="4643280" y="3753000"/>
            <a:ext cx="978120" cy="484200"/>
          </a:xfrm>
          <a:custGeom>
            <a:avLst/>
            <a:gdLst>
              <a:gd name="textAreaLeft" fmla="*/ 120960 w 978120"/>
              <a:gd name="textAreaRight" fmla="*/ 857160 w 9781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0" y="5400"/>
                </a:lnTo>
                <a:lnTo>
                  <a:pt x="16250" y="0"/>
                </a:lnTo>
                <a:lnTo>
                  <a:pt x="21600" y="10800"/>
                </a:lnTo>
                <a:lnTo>
                  <a:pt x="16250" y="21600"/>
                </a:lnTo>
                <a:lnTo>
                  <a:pt x="16250" y="16200"/>
                </a:lnTo>
                <a:lnTo>
                  <a:pt x="0" y="16200"/>
                </a:lnTo>
                <a:lnTo>
                  <a:pt x="2675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TextBox 36"/>
          <p:cNvSpPr/>
          <p:nvPr/>
        </p:nvSpPr>
        <p:spPr>
          <a:xfrm>
            <a:off x="1052640" y="5084640"/>
            <a:ext cx="79563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1 этап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позволяет проанализировать целесообразность реализации тех или иных расходных обязательств города Омска и исключить возможность включения в расходы бюджета города Омска расходных обязательств без правовых оснований их возникновения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2 этап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определяет расходные обязательства, обязательные для исполнения в предстоящем финансовом году и плановом периоде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Реестр расходных обязательств города Омска представляется департаментом финансов и контроля Администрации города Омска в Министерство финансов Омской области в порядке, установленном Министерством финансов Омской области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Прямоугольник с двумя скругленными противолежащими углами 3"/>
          <p:cNvGrpSpPr/>
          <p:nvPr/>
        </p:nvGrpSpPr>
        <p:grpSpPr>
          <a:xfrm>
            <a:off x="865080" y="208080"/>
            <a:ext cx="8223480" cy="730080"/>
            <a:chOff x="865080" y="208080"/>
            <a:chExt cx="8223480" cy="730080"/>
          </a:xfrm>
        </p:grpSpPr>
        <p:pic>
          <p:nvPicPr>
            <p:cNvPr id="388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865080" y="208080"/>
              <a:ext cx="8223480" cy="7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1009800" y="326880"/>
              <a:ext cx="793404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Georgia"/>
                </a:rPr>
                <a:t>Реестр расходных обязательств муниципального образования городской округ город Омск Омской области</a:t>
              </a:r>
              <a:r>
                <a:rPr b="1" lang="ru-RU" sz="1400" spc="-1" strike="noStrike">
                  <a:solidFill>
                    <a:srgbClr val="ffffff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aphicFrame>
        <p:nvGraphicFramePr>
          <p:cNvPr id="390" name="Object 23"/>
          <p:cNvGraphicFramePr/>
          <p:nvPr/>
        </p:nvGraphicFramePr>
        <p:xfrm>
          <a:off x="250920" y="73080"/>
          <a:ext cx="506160" cy="42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1" name="Object 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73080"/>
                    <a:ext cx="5061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TextBox 5"/>
          <p:cNvSpPr/>
          <p:nvPr/>
        </p:nvSpPr>
        <p:spPr>
          <a:xfrm>
            <a:off x="928800" y="0"/>
            <a:ext cx="37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75a8d"/>
                </a:solidFill>
                <a:latin typeface="Arial Black"/>
              </a:rPr>
              <a:t>Администрация города Омск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1254600" y="822240"/>
            <a:ext cx="767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Схема формирования  реестра расходных обязательств (РРО) города Омск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94" name="Блок-схема: извлечение 7"/>
          <p:cNvGrpSpPr/>
          <p:nvPr/>
        </p:nvGrpSpPr>
        <p:grpSpPr>
          <a:xfrm>
            <a:off x="1109520" y="1103400"/>
            <a:ext cx="816120" cy="822240"/>
            <a:chOff x="1109520" y="1103400"/>
            <a:chExt cx="816120" cy="822240"/>
          </a:xfrm>
        </p:grpSpPr>
        <p:pic>
          <p:nvPicPr>
            <p:cNvPr id="395" name="Блок-схема: извлечение 7" descr=""/>
            <p:cNvPicPr/>
            <p:nvPr/>
          </p:nvPicPr>
          <p:blipFill>
            <a:blip r:embed="rId4"/>
            <a:stretch/>
          </p:blipFill>
          <p:spPr>
            <a:xfrm>
              <a:off x="1109520" y="1103400"/>
              <a:ext cx="8161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1320840" y="14907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97" name="Блок-схема: извлечение 9"/>
          <p:cNvGrpSpPr/>
          <p:nvPr/>
        </p:nvGrpSpPr>
        <p:grpSpPr>
          <a:xfrm>
            <a:off x="2225520" y="1109520"/>
            <a:ext cx="822600" cy="822600"/>
            <a:chOff x="2225520" y="1109520"/>
            <a:chExt cx="822600" cy="822600"/>
          </a:xfrm>
        </p:grpSpPr>
        <p:pic>
          <p:nvPicPr>
            <p:cNvPr id="398" name="Блок-схема: извлечение 9" descr=""/>
            <p:cNvPicPr/>
            <p:nvPr/>
          </p:nvPicPr>
          <p:blipFill>
            <a:blip r:embed="rId5"/>
            <a:stretch/>
          </p:blipFill>
          <p:spPr>
            <a:xfrm>
              <a:off x="2225520" y="1109520"/>
              <a:ext cx="82260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2440080" y="1496880"/>
              <a:ext cx="342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400" name="Блок-схема: извлечение 10"/>
          <p:cNvGrpSpPr/>
          <p:nvPr/>
        </p:nvGrpSpPr>
        <p:grpSpPr>
          <a:xfrm>
            <a:off x="3279600" y="1103400"/>
            <a:ext cx="816120" cy="817560"/>
            <a:chOff x="3279600" y="1103400"/>
            <a:chExt cx="816120" cy="817560"/>
          </a:xfrm>
        </p:grpSpPr>
        <p:pic>
          <p:nvPicPr>
            <p:cNvPr id="401" name="Блок-схема: извлечение 10" descr=""/>
            <p:cNvPicPr/>
            <p:nvPr/>
          </p:nvPicPr>
          <p:blipFill>
            <a:blip r:embed="rId6"/>
            <a:stretch/>
          </p:blipFill>
          <p:spPr>
            <a:xfrm>
              <a:off x="3279600" y="1103400"/>
              <a:ext cx="8161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3492360" y="1487520"/>
              <a:ext cx="343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403" name="Блок-схема: извлечение 11"/>
          <p:cNvGrpSpPr/>
          <p:nvPr/>
        </p:nvGrpSpPr>
        <p:grpSpPr>
          <a:xfrm>
            <a:off x="5248440" y="1073160"/>
            <a:ext cx="823680" cy="816120"/>
            <a:chOff x="5248440" y="1073160"/>
            <a:chExt cx="823680" cy="816120"/>
          </a:xfrm>
        </p:grpSpPr>
        <p:pic>
          <p:nvPicPr>
            <p:cNvPr id="404" name="Блок-схема: извлечение 11" descr=""/>
            <p:cNvPicPr/>
            <p:nvPr/>
          </p:nvPicPr>
          <p:blipFill>
            <a:blip r:embed="rId7"/>
            <a:stretch/>
          </p:blipFill>
          <p:spPr>
            <a:xfrm>
              <a:off x="5248440" y="1073160"/>
              <a:ext cx="82368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5464080" y="1457280"/>
              <a:ext cx="343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406" name="Блок-схема: извлечение 12"/>
          <p:cNvGrpSpPr/>
          <p:nvPr/>
        </p:nvGrpSpPr>
        <p:grpSpPr>
          <a:xfrm>
            <a:off x="4248000" y="1109520"/>
            <a:ext cx="824040" cy="822600"/>
            <a:chOff x="4248000" y="1109520"/>
            <a:chExt cx="824040" cy="822600"/>
          </a:xfrm>
        </p:grpSpPr>
        <p:pic>
          <p:nvPicPr>
            <p:cNvPr id="407" name="Блок-схема: извлечение 12" descr=""/>
            <p:cNvPicPr/>
            <p:nvPr/>
          </p:nvPicPr>
          <p:blipFill>
            <a:blip r:embed="rId8"/>
            <a:stretch/>
          </p:blipFill>
          <p:spPr>
            <a:xfrm>
              <a:off x="4248000" y="1109520"/>
              <a:ext cx="82404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464000" y="1496880"/>
              <a:ext cx="343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409" name="Блок-схема: извлечение 13"/>
          <p:cNvGrpSpPr/>
          <p:nvPr/>
        </p:nvGrpSpPr>
        <p:grpSpPr>
          <a:xfrm>
            <a:off x="6254640" y="1103400"/>
            <a:ext cx="822600" cy="817560"/>
            <a:chOff x="6254640" y="1103400"/>
            <a:chExt cx="822600" cy="817560"/>
          </a:xfrm>
        </p:grpSpPr>
        <p:pic>
          <p:nvPicPr>
            <p:cNvPr id="410" name="Блок-схема: извлечение 13" descr=""/>
            <p:cNvPicPr/>
            <p:nvPr/>
          </p:nvPicPr>
          <p:blipFill>
            <a:blip r:embed="rId9"/>
            <a:stretch/>
          </p:blipFill>
          <p:spPr>
            <a:xfrm>
              <a:off x="6254640" y="1103400"/>
              <a:ext cx="82260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6472080" y="1487520"/>
              <a:ext cx="343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412" name="Блок-схема: извлечение 14"/>
          <p:cNvGrpSpPr/>
          <p:nvPr/>
        </p:nvGrpSpPr>
        <p:grpSpPr>
          <a:xfrm>
            <a:off x="7265880" y="1085760"/>
            <a:ext cx="817560" cy="822240"/>
            <a:chOff x="7265880" y="1085760"/>
            <a:chExt cx="817560" cy="822240"/>
          </a:xfrm>
        </p:grpSpPr>
        <p:pic>
          <p:nvPicPr>
            <p:cNvPr id="413" name="Блок-схема: извлечение 14" descr=""/>
            <p:cNvPicPr/>
            <p:nvPr/>
          </p:nvPicPr>
          <p:blipFill>
            <a:blip r:embed="rId10"/>
            <a:stretch/>
          </p:blipFill>
          <p:spPr>
            <a:xfrm>
              <a:off x="7265880" y="1085760"/>
              <a:ext cx="8175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7480440" y="1473120"/>
              <a:ext cx="342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415" name="Блок-схема: извлечение 15"/>
          <p:cNvGrpSpPr/>
          <p:nvPr/>
        </p:nvGrpSpPr>
        <p:grpSpPr>
          <a:xfrm>
            <a:off x="8210520" y="1073160"/>
            <a:ext cx="817560" cy="822240"/>
            <a:chOff x="8210520" y="1073160"/>
            <a:chExt cx="817560" cy="822240"/>
          </a:xfrm>
        </p:grpSpPr>
        <p:pic>
          <p:nvPicPr>
            <p:cNvPr id="416" name="Блок-схема: извлечение 15" descr=""/>
            <p:cNvPicPr/>
            <p:nvPr/>
          </p:nvPicPr>
          <p:blipFill>
            <a:blip r:embed="rId11"/>
            <a:stretch/>
          </p:blipFill>
          <p:spPr>
            <a:xfrm>
              <a:off x="8210520" y="1073160"/>
              <a:ext cx="8175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8424720" y="1459080"/>
              <a:ext cx="343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418" name="TextBox 16"/>
          <p:cNvSpPr/>
          <p:nvPr/>
        </p:nvSpPr>
        <p:spPr>
          <a:xfrm>
            <a:off x="2611800" y="1457280"/>
            <a:ext cx="487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Georgia"/>
              </a:rPr>
              <a:t>главные распорядители средств бюджета города Омска (ГРБС)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Прямая соединительная линия 19"/>
          <p:cNvSpPr/>
          <p:nvPr/>
        </p:nvSpPr>
        <p:spPr>
          <a:xfrm>
            <a:off x="1492200" y="1903320"/>
            <a:ext cx="0" cy="301680"/>
          </a:xfrm>
          <a:prstGeom prst="line">
            <a:avLst/>
          </a:prstGeom>
          <a:ln w="25560">
            <a:solidFill>
              <a:srgbClr val="4b3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Прямая соединительная линия 21"/>
          <p:cNvSpPr/>
          <p:nvPr/>
        </p:nvSpPr>
        <p:spPr>
          <a:xfrm>
            <a:off x="1492200" y="2205000"/>
            <a:ext cx="7116840" cy="0"/>
          </a:xfrm>
          <a:prstGeom prst="line">
            <a:avLst/>
          </a:prstGeom>
          <a:ln w="25560">
            <a:solidFill>
              <a:srgbClr val="1e1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Прямая соединительная линия 24"/>
          <p:cNvSpPr/>
          <p:nvPr/>
        </p:nvSpPr>
        <p:spPr>
          <a:xfrm flipV="1">
            <a:off x="4981680" y="2204640"/>
            <a:ext cx="19080" cy="1204920"/>
          </a:xfrm>
          <a:prstGeom prst="line">
            <a:avLst/>
          </a:prstGeom>
          <a:ln w="25560">
            <a:solidFill>
              <a:srgbClr val="1e190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22" name="Овал 26"/>
          <p:cNvGrpSpPr/>
          <p:nvPr/>
        </p:nvGrpSpPr>
        <p:grpSpPr>
          <a:xfrm>
            <a:off x="4078440" y="2401920"/>
            <a:ext cx="1815840" cy="676080"/>
            <a:chOff x="4078440" y="2401920"/>
            <a:chExt cx="1815840" cy="676080"/>
          </a:xfrm>
        </p:grpSpPr>
        <p:pic>
          <p:nvPicPr>
            <p:cNvPr id="423" name="Овал 26" descr=""/>
            <p:cNvPicPr/>
            <p:nvPr/>
          </p:nvPicPr>
          <p:blipFill>
            <a:blip r:embed="rId12"/>
            <a:stretch/>
          </p:blipFill>
          <p:spPr>
            <a:xfrm>
              <a:off x="4078440" y="2401920"/>
              <a:ext cx="181584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4357800" y="2516040"/>
              <a:ext cx="126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4b3e21"/>
                  </a:solidFill>
                  <a:latin typeface="Georgia"/>
                </a:rPr>
                <a:t>РРО ГРБС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425" name="Прямая соединительная линия 35"/>
          <p:cNvSpPr/>
          <p:nvPr/>
        </p:nvSpPr>
        <p:spPr>
          <a:xfrm>
            <a:off x="2611440" y="1903320"/>
            <a:ext cx="0" cy="301680"/>
          </a:xfrm>
          <a:prstGeom prst="line">
            <a:avLst/>
          </a:prstGeom>
          <a:ln w="25560">
            <a:solidFill>
              <a:srgbClr val="4b3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Прямая соединительная линия 38"/>
          <p:cNvSpPr/>
          <p:nvPr/>
        </p:nvSpPr>
        <p:spPr>
          <a:xfrm>
            <a:off x="3675240" y="1903320"/>
            <a:ext cx="0" cy="301680"/>
          </a:xfrm>
          <a:prstGeom prst="line">
            <a:avLst/>
          </a:prstGeom>
          <a:ln w="25560">
            <a:solidFill>
              <a:srgbClr val="4b3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Прямая соединительная линия 39"/>
          <p:cNvSpPr/>
          <p:nvPr/>
        </p:nvSpPr>
        <p:spPr>
          <a:xfrm>
            <a:off x="7662960" y="1903320"/>
            <a:ext cx="0" cy="301680"/>
          </a:xfrm>
          <a:prstGeom prst="line">
            <a:avLst/>
          </a:prstGeom>
          <a:ln w="25560">
            <a:solidFill>
              <a:srgbClr val="4b3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Прямая соединительная линия 40"/>
          <p:cNvSpPr/>
          <p:nvPr/>
        </p:nvSpPr>
        <p:spPr>
          <a:xfrm>
            <a:off x="8609040" y="1903320"/>
            <a:ext cx="0" cy="301680"/>
          </a:xfrm>
          <a:prstGeom prst="line">
            <a:avLst/>
          </a:prstGeom>
          <a:ln w="25560">
            <a:solidFill>
              <a:srgbClr val="4b3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Прямая соединительная линия 41"/>
          <p:cNvSpPr/>
          <p:nvPr/>
        </p:nvSpPr>
        <p:spPr>
          <a:xfrm>
            <a:off x="4645080" y="1903320"/>
            <a:ext cx="0" cy="301680"/>
          </a:xfrm>
          <a:prstGeom prst="line">
            <a:avLst/>
          </a:prstGeom>
          <a:ln w="25560">
            <a:solidFill>
              <a:srgbClr val="4b3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Прямая соединительная линия 42"/>
          <p:cNvSpPr/>
          <p:nvPr/>
        </p:nvSpPr>
        <p:spPr>
          <a:xfrm>
            <a:off x="5635800" y="1873080"/>
            <a:ext cx="0" cy="301680"/>
          </a:xfrm>
          <a:prstGeom prst="line">
            <a:avLst/>
          </a:prstGeom>
          <a:ln w="25560">
            <a:solidFill>
              <a:srgbClr val="4b3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Прямая соединительная линия 43"/>
          <p:cNvSpPr/>
          <p:nvPr/>
        </p:nvSpPr>
        <p:spPr>
          <a:xfrm>
            <a:off x="6635880" y="1893960"/>
            <a:ext cx="0" cy="301680"/>
          </a:xfrm>
          <a:prstGeom prst="line">
            <a:avLst/>
          </a:prstGeom>
          <a:ln w="25560">
            <a:solidFill>
              <a:srgbClr val="4b3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2" name="Блок-схема: процесс 58" descr=""/>
          <p:cNvPicPr/>
          <p:nvPr/>
        </p:nvPicPr>
        <p:blipFill>
          <a:blip r:embed="rId13"/>
          <a:stretch/>
        </p:blipFill>
        <p:spPr>
          <a:xfrm>
            <a:off x="420840" y="2292480"/>
            <a:ext cx="615960" cy="1242720"/>
          </a:xfrm>
          <a:prstGeom prst="rect">
            <a:avLst/>
          </a:prstGeom>
          <a:ln w="0">
            <a:noFill/>
          </a:ln>
        </p:spPr>
      </p:pic>
      <p:sp>
        <p:nvSpPr>
          <p:cNvPr id="433" name="Левая фигурная скобка 59"/>
          <p:cNvSpPr/>
          <p:nvPr/>
        </p:nvSpPr>
        <p:spPr>
          <a:xfrm>
            <a:off x="1174680" y="1954080"/>
            <a:ext cx="155520" cy="174312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1743120"/>
              <a:gd name="textAreaBottom" fmla="*/ 1739160 h 17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0"/>
                  <a:pt x="10800" y="160"/>
                </a:cubicBezTo>
                <a:lnTo>
                  <a:pt x="10800" y="10640"/>
                </a:lnTo>
                <a:cubicBezTo>
                  <a:pt x="10800" y="10720"/>
                  <a:pt x="5400" y="10800"/>
                  <a:pt x="0" y="10800"/>
                </a:cubicBezTo>
                <a:cubicBezTo>
                  <a:pt x="5400" y="10800"/>
                  <a:pt x="10800" y="10880"/>
                  <a:pt x="10800" y="10960"/>
                </a:cubicBezTo>
                <a:lnTo>
                  <a:pt x="10800" y="21440"/>
                </a:lnTo>
                <a:cubicBezTo>
                  <a:pt x="10800" y="2152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b3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Левая фигурная скобка 60"/>
          <p:cNvSpPr/>
          <p:nvPr/>
        </p:nvSpPr>
        <p:spPr>
          <a:xfrm>
            <a:off x="1179360" y="3697200"/>
            <a:ext cx="150840" cy="2791080"/>
          </a:xfrm>
          <a:custGeom>
            <a:avLst/>
            <a:gdLst>
              <a:gd name="textAreaLeft" fmla="*/ 96480 w 150840"/>
              <a:gd name="textAreaRight" fmla="*/ 151200 w 150840"/>
              <a:gd name="textAreaTop" fmla="*/ 3960 h 2791080"/>
              <a:gd name="textAreaBottom" fmla="*/ 2787120 h 279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"/>
                  <a:pt x="10800" y="98"/>
                </a:cubicBezTo>
                <a:lnTo>
                  <a:pt x="10800" y="10702"/>
                </a:lnTo>
                <a:cubicBezTo>
                  <a:pt x="10800" y="10751"/>
                  <a:pt x="5400" y="10800"/>
                  <a:pt x="0" y="10800"/>
                </a:cubicBezTo>
                <a:cubicBezTo>
                  <a:pt x="5400" y="10800"/>
                  <a:pt x="10800" y="10849"/>
                  <a:pt x="10800" y="10898"/>
                </a:cubicBezTo>
                <a:lnTo>
                  <a:pt x="10800" y="21502"/>
                </a:lnTo>
                <a:cubicBezTo>
                  <a:pt x="10800" y="2155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b3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5" name="Блок-схема: процесс 61" descr=""/>
          <p:cNvPicPr/>
          <p:nvPr/>
        </p:nvPicPr>
        <p:blipFill>
          <a:blip r:embed="rId14"/>
          <a:stretch/>
        </p:blipFill>
        <p:spPr>
          <a:xfrm>
            <a:off x="420840" y="4419720"/>
            <a:ext cx="615960" cy="1268280"/>
          </a:xfrm>
          <a:prstGeom prst="rect">
            <a:avLst/>
          </a:prstGeom>
          <a:ln w="0">
            <a:noFill/>
          </a:ln>
        </p:spPr>
      </p:pic>
      <p:grpSp>
        <p:nvGrpSpPr>
          <p:cNvPr id="436" name="Группа 83"/>
          <p:cNvGrpSpPr/>
          <p:nvPr/>
        </p:nvGrpSpPr>
        <p:grpSpPr>
          <a:xfrm>
            <a:off x="1400040" y="3409920"/>
            <a:ext cx="7513920" cy="3016440"/>
            <a:chOff x="1400040" y="3409920"/>
            <a:chExt cx="7513920" cy="3016440"/>
          </a:xfrm>
        </p:grpSpPr>
        <p:grpSp>
          <p:nvGrpSpPr>
            <p:cNvPr id="437" name="Прямоугольник с двумя вырезанными противолежащими углами 29"/>
            <p:cNvGrpSpPr/>
            <p:nvPr/>
          </p:nvGrpSpPr>
          <p:grpSpPr>
            <a:xfrm>
              <a:off x="3076560" y="3409920"/>
              <a:ext cx="3796560" cy="603000"/>
              <a:chOff x="3076560" y="3409920"/>
              <a:chExt cx="3796560" cy="603000"/>
            </a:xfrm>
          </p:grpSpPr>
          <p:pic>
            <p:nvPicPr>
              <p:cNvPr id="438" name="Прямоугольник с двумя вырезанными противолежащими углами 29" descr=""/>
              <p:cNvPicPr/>
              <p:nvPr/>
            </p:nvPicPr>
            <p:blipFill>
              <a:blip r:embed="rId15"/>
              <a:stretch/>
            </p:blipFill>
            <p:spPr>
              <a:xfrm>
                <a:off x="3076560" y="3409920"/>
                <a:ext cx="3796560" cy="60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"/>
              <p:cNvSpPr/>
              <p:nvPr/>
            </p:nvSpPr>
            <p:spPr>
              <a:xfrm>
                <a:off x="3141720" y="3477240"/>
                <a:ext cx="36734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4b3e21"/>
                    </a:solidFill>
                    <a:latin typeface="Georgia"/>
                  </a:rPr>
                  <a:t>Департамент финансов и контроля Администрации города Омска</a:t>
                </a:r>
                <a:endParaRPr b="0" lang="en-US" sz="14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440" name="Овал 33"/>
            <p:cNvGrpSpPr/>
            <p:nvPr/>
          </p:nvGrpSpPr>
          <p:grpSpPr>
            <a:xfrm>
              <a:off x="4078800" y="4266360"/>
              <a:ext cx="1803960" cy="669600"/>
              <a:chOff x="4078800" y="4266360"/>
              <a:chExt cx="1803960" cy="669600"/>
            </a:xfrm>
          </p:grpSpPr>
          <p:pic>
            <p:nvPicPr>
              <p:cNvPr id="441" name="Овал 33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78800" y="4266360"/>
                <a:ext cx="1803960" cy="66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2" name=""/>
              <p:cNvSpPr/>
              <p:nvPr/>
            </p:nvSpPr>
            <p:spPr>
              <a:xfrm>
                <a:off x="4356720" y="4378680"/>
                <a:ext cx="1256400" cy="45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4b3e21"/>
                    </a:solidFill>
                    <a:latin typeface="Georgia"/>
                  </a:rPr>
                  <a:t>свод РРО города Омска</a:t>
                </a:r>
                <a:endParaRPr b="0" lang="en-US" sz="14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443" name="Прямоугольник с двумя вырезанными противолежащими углами 34"/>
            <p:cNvGrpSpPr/>
            <p:nvPr/>
          </p:nvGrpSpPr>
          <p:grpSpPr>
            <a:xfrm>
              <a:off x="5117400" y="5690520"/>
              <a:ext cx="3796560" cy="693720"/>
              <a:chOff x="5117400" y="5690520"/>
              <a:chExt cx="3796560" cy="693720"/>
            </a:xfrm>
          </p:grpSpPr>
          <p:pic>
            <p:nvPicPr>
              <p:cNvPr id="444" name="Прямоугольник с двумя вырезанными противолежащими углами 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17400" y="5690520"/>
                <a:ext cx="3796560" cy="69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>
                <a:off x="5190480" y="5763600"/>
                <a:ext cx="365796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4b3e21"/>
                    </a:solidFill>
                    <a:latin typeface="Georgia"/>
                  </a:rPr>
                  <a:t>Министерство финансов Омской области</a:t>
                </a:r>
                <a:endParaRPr b="0" lang="en-US" sz="14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446" name="Прямая соединительная линия 55"/>
            <p:cNvSpPr/>
            <p:nvPr/>
          </p:nvSpPr>
          <p:spPr>
            <a:xfrm flipV="1">
              <a:off x="3475440" y="4925880"/>
              <a:ext cx="1477800" cy="712440"/>
            </a:xfrm>
            <a:prstGeom prst="line">
              <a:avLst/>
            </a:prstGeom>
            <a:ln w="25560">
              <a:solidFill>
                <a:srgbClr val="1e190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47" name="Прямоугольник с двумя вырезанными противолежащими углами 62"/>
            <p:cNvGrpSpPr/>
            <p:nvPr/>
          </p:nvGrpSpPr>
          <p:grpSpPr>
            <a:xfrm>
              <a:off x="1400040" y="5690520"/>
              <a:ext cx="3516840" cy="735840"/>
              <a:chOff x="1400040" y="5690520"/>
              <a:chExt cx="3516840" cy="735840"/>
            </a:xfrm>
          </p:grpSpPr>
          <p:pic>
            <p:nvPicPr>
              <p:cNvPr id="448" name="Прямоугольник с двумя вырезанными противолежащими углами 62" descr=""/>
              <p:cNvPicPr/>
              <p:nvPr/>
            </p:nvPicPr>
            <p:blipFill>
              <a:blip r:embed="rId18"/>
              <a:stretch/>
            </p:blipFill>
            <p:spPr>
              <a:xfrm>
                <a:off x="1400040" y="5690520"/>
                <a:ext cx="3516840" cy="73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"/>
              <p:cNvSpPr/>
              <p:nvPr/>
            </p:nvSpPr>
            <p:spPr>
              <a:xfrm>
                <a:off x="1475640" y="5769000"/>
                <a:ext cx="337212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4b3e21"/>
                    </a:solidFill>
                    <a:latin typeface="Georgia"/>
                  </a:rPr>
                  <a:t>Размещение  в сети «Интернет» на официальном сайте Администрации города Омска </a:t>
                </a:r>
                <a:endParaRPr b="0" lang="en-US" sz="14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450" name="Прямая соединительная линия 63"/>
            <p:cNvSpPr/>
            <p:nvPr/>
          </p:nvSpPr>
          <p:spPr>
            <a:xfrm flipV="1">
              <a:off x="4965120" y="3999600"/>
              <a:ext cx="0" cy="284760"/>
            </a:xfrm>
            <a:prstGeom prst="line">
              <a:avLst/>
            </a:prstGeom>
            <a:ln w="25560">
              <a:solidFill>
                <a:srgbClr val="1e19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51" name="Прямая соединительная линия 73"/>
            <p:cNvSpPr/>
            <p:nvPr/>
          </p:nvSpPr>
          <p:spPr>
            <a:xfrm flipH="1" flipV="1">
              <a:off x="4964760" y="4922640"/>
              <a:ext cx="1643400" cy="716040"/>
            </a:xfrm>
            <a:prstGeom prst="line">
              <a:avLst/>
            </a:prstGeom>
            <a:ln w="25560">
              <a:solidFill>
                <a:srgbClr val="1e190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0:06:15Z</dcterms:created>
  <dc:creator>Галина В. Кузлякина</dc:creator>
  <dc:description/>
  <dc:language>en-US</dc:language>
  <cp:lastModifiedBy>kschernaya</cp:lastModifiedBy>
  <dcterms:modified xsi:type="dcterms:W3CDTF">2013-06-20T08:57:15Z</dcterms:modified>
  <cp:revision>76</cp:revision>
  <dc:subject/>
  <dc:title>Реестр расходных обязательств</dc:title>
</cp:coreProperties>
</file>